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805-E447-47D7-BB49-9DE85F4B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765-528F-4651-A8BB-6DA2239E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AA5A8-63EE-49B3-8C6F-CBCD0820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FA728-E3DB-4739-AB22-4CA2920E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D7128-07DD-4162-AE0D-9C14BDF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5B660-7B4B-44DE-9BE0-E891A21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DCFBF-8A1D-4278-A7A8-78E72616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B2E5C-0CEE-42EE-8C00-BC9210F7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0D689-F96F-489C-9738-4E833D0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0D998-590D-4639-81D4-EA218EE3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447F0-8FBE-4ABC-98A7-0D7CDF8B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CA3FF-90A1-400A-8186-C79F3222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884-F2B7-4E43-9E67-35E04904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E94FF-4324-4ACC-9D79-92A64D78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4F54D-CE46-428F-B553-2AD0904B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63445-AE1F-40B1-9814-601BEF1E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590B2-0ECF-4AFE-98B7-9A2F2073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B7D08-80AA-4A46-A3DB-2532E4AF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03DBF-00C6-4D84-9051-929F9669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C73B5-37AB-4AAE-9475-0C0255F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D3728-CAFA-4B49-8C7D-4E384DB1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97EA4-F258-45BD-A87D-9A8768C1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3AE02-6E6A-46FE-91F6-B9044AC4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AE2-F6E9-42A3-B1D3-88BDAD3D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A0CFE-D9B7-4075-92CB-EC4DFF79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8E82E-3B52-402A-9DE4-6C73A531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840D7-502B-450A-AAA6-D603EC16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8B2D8-77F9-4B6A-BFEE-E09A5EE1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4BEE2-73CD-4DBE-8AA7-5BC1BA19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3E773-AFF0-428F-8916-BD806482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A1867-D9BC-4FB8-8905-00ED71EA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3DCD5-F80E-47B4-86C3-EA5D60E2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A8BE9-15BD-4316-A6B5-7B584C75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0394E-DC74-404D-8711-999FD4A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5CFA-DF7E-48A2-A362-14B37CA4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5F5DD-8095-4011-9641-43CF1927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4D322-1C70-44F7-BE94-07C298D6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DC7AB-7FE8-44CC-9E9B-3D5646F4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B7291-DDBC-443A-9BB4-3341ED2D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E3DA6-C86C-4014-BFBE-35BDEB1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91680-8C80-4A3C-94E4-235891BC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053C6-B2E6-48F3-BA19-BBAB1B79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FA97D-B584-4016-ACED-44E3B51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478C3-53B5-4682-A922-B6B55416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5CEDE-D80B-4489-B7E2-157A9AF3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AE0A-E4BF-4435-9AAA-8AA48CEA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218D7-E0FF-4D4F-90CC-716039B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2BBC4-A588-45D1-9024-F4D0FE90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D9AF7-B623-4F06-AB70-F6B0F91F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9A24F-2871-4340-896A-1E9DC1FF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E3F35-38B7-47ED-B324-4602DC39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8130B-6653-4345-B69D-811B0EDC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258F2-E666-4E9E-A998-432AE6CF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3CCE8-5C87-46B8-BCCC-1A891D3D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2165F-5D2C-407C-91DE-93EA6A75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06856-B0DD-4AB5-A5EF-9DEA595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23BB-A394-45C6-9D4A-F3D1EA91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45598-E358-43B6-81EF-3865F215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5A24F-C41C-40E6-B271-836BE3C3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D2A1B-4932-47AC-9CBC-647276C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49486-B9A8-4CAE-8FBE-F1569A51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9BE6D-C7CF-4F71-A0BA-FCDFAC41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44A8D-8C4F-498B-B4B7-646CBB36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D03AD-E125-463E-90A6-74F37B14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19FFD-4F92-4880-B1B0-229A2222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62AB2-19AE-4CCB-9F42-F01F1E07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82BE8-C7A1-4057-BB7E-38C1A28A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3784-11A5-4F01-8D30-5EAF2562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3FDEB-4714-471F-A181-55439012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9046E-E199-40AE-932A-680AA596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A4CB7-F144-47F0-A7D0-871B2C9F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BFA14-4881-4344-A497-A52CBC65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ABC2A-9E40-4C78-A45D-D6129328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DBAA1-68E9-4BDE-991C-C2A4AB00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7F7F5-91CA-4F52-AFF7-09E1254D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2F036-0B4F-4B17-B3CB-1B865A39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C0B62-8284-460C-AE67-90049A5B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9A109-F909-433A-A666-B9E9D155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AFAF-118B-467F-9FF1-512CEE95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84C96-53C0-48CE-9B50-1080BD26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4688E-F3BE-41CA-A6E1-A82E1F37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7AFFB-3F95-4CF2-938E-7945A3C5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BAD53-5831-41B3-9EE8-7DE08040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C505B-2A9D-46F4-AFF3-D5F4FA8E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C85EA-C102-4ED0-9FC9-F061D5B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F788E-4B2F-4C57-BCE3-F2BE331F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B8A24-0D14-43B3-BFC0-1022B3C6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77D90-53D6-4844-8CE2-8E922F8B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4316C-CE0F-4F27-971E-F013986B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6C9E-7208-405F-8618-4711ABE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7CDF2-8298-4275-8A47-9C75EBEC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15FE6-56B5-460B-BCBF-F757455B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230FF-1B0E-4011-BA05-C8EDD27A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29ABC-7F5F-4026-89E6-6FCACAF4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3FCC1-EC5E-4D8A-9203-8BAB6728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0BC5F-572C-4D95-8795-0B8DFF18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B52D0-E65C-4D48-92AB-6BEB4DA6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2A17E-00E4-4B24-B66D-F8B44EE5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AAD1D-1E82-4FFD-BE18-951EB34D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81991-E012-4D7B-AD4E-9D7A5AE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01E4-1752-4915-95FD-03ACA2DC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0FD12-4B6C-483D-A568-CE2986A5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28CF7-20A6-425B-91C7-160199E0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B8D1B-94D2-4736-BE8C-3C84CED5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DF48E-EE70-44CA-B27C-9CA007DD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59B22-CC0A-46D0-A64B-3F1332D8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F46C5-DD3D-4BD1-BC53-AAEDF853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75060-DFB2-4445-BA15-CE0C3E1E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E32E1-4956-405D-B7F8-DA360E81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D376C-8E3A-45CD-8C65-C549B540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453ADE-569C-4F8C-8268-39444283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516-38DD-4DC0-A7C1-CEEBEDFA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863A-4431-4B32-969D-825608C6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664EA-9A60-46BA-8B8E-8B89B51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1EDAD-9715-4630-9F5A-2DE3104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E926D-3F25-49C3-8565-2B7D006E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38ACF-2551-4FB4-914C-423D1976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7385C-B008-46C2-8F2D-18658823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520946-76C8-4896-BDF4-08A45B85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EA1D64-2090-449D-B543-E021D24B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E3EA6-98A5-494E-B3F4-201097B7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4DBA7-C36F-466A-86B5-685588DF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2CFEB-C75F-4A45-8A93-C52EFFB8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8996-9E4F-4E21-84E2-23359D8A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0D7C1-D1E9-4589-A4F4-B99EA7B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388E9-9B8D-4462-B689-A6D86F08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DBD96-C17F-4201-9BE0-0275E09E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91C6F-1474-4C9F-8092-AA84F539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B0B55-9F1B-45E6-871B-E5EE9C8F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45C77-97D8-4DF9-B920-124F46D9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7F5A68-97B0-4B62-8E9F-EA844F76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740F3-1CC2-402C-9253-A94DFA6E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1D013-06F1-4F98-BE5F-ADE07A4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9FCD7-CE23-4467-8BD5-BFCB22FF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235E-B51E-4F54-A4E0-064655DE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0CB8E-865B-4E87-9DA6-5DED17C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B9A9D-A469-4C3A-8D3F-116F3468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53B90-FF12-46A2-95A7-86C19FCD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C39A40-25DF-46CD-95AB-0159D76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3D3EC-39D0-4D1C-8E18-E251215E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D8155-AC77-4836-8BBE-44859B2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A8B126-9CB9-4F7E-ACE3-6811F65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782284-9BAC-4512-8E53-9CB0F01F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C8CE7-6F15-4872-BD68-3C8B5BC4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CFFF4-2A31-436B-A991-C69C1B86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98AB-9EAB-4145-B3CA-8A1150D0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87DD8-59F9-440E-B340-D6BA8C7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F29859-3A30-4234-A07E-D3DB4FDE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646575-B939-4C73-AC16-2ACFB037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23EC47-9882-4231-A57C-67AC13B1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6DC49-A23B-4730-922A-DF3F7FAB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4B0CE-9FE8-418C-9846-5ECB64B9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1CE23-85EA-4512-AE15-204E156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5C6DE-775D-4058-BC7A-A8DBBC2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3B78D-B3A7-44FB-A0E7-E5C7D1B9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02AFA-1C14-43C3-B94C-B43B3261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FE81-BF0F-4770-8D6C-F636117A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B4874-48FD-46EA-9DA5-003637C0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0295A-E77C-47FB-810B-64C40F3F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3C990-D990-4ED3-AB04-CCF115A4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0D1336-FD4B-4C0A-A32A-05CD4189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8BBD0-5BE4-460E-916F-3F8F8677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B1569B-1347-4AE9-B46F-3867E22E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F114A-D3A5-49ED-9322-AA5B1B8C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4212E-0EB0-46CF-BB30-B616489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81C2F-732B-43AB-AB47-F48779F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66C058-5314-4AD6-9981-8134CE9E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B544-FFC5-46F0-BB32-468F9FDA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679222-39CD-4CE6-9266-33F8948D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1392D3-C352-4C64-8A3B-BE505F7F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66BFE4-801B-4233-94C4-697FDF4E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73A249-900B-4844-A67D-7434F298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E0367-AC19-4CAF-AFC8-A0282B7C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AEA5E2-A48E-438A-9395-D13D2585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2CF0E4-FBEA-42CA-B1D9-AE77D73B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935236-1FC3-43BF-8CA9-20889395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8E8FA3-43F8-44CD-9652-885D1847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F29AEB-8AFA-4F4C-BB44-8A033F7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0014-2CBD-44A4-8317-5543EA51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F0BAD6-C633-4C25-8487-7D7E573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69365B-3FC8-4C6E-9193-62DA9607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45D62-65BA-4B12-A932-23E45268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A7B55F-447A-4E4A-9284-023846EB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7DE53F-89BE-4BC5-8CBA-56D062BA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7FFF48-BAD8-4D1E-98A8-3526E3EA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43F64B-32C1-4781-BD07-9F77B8EA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4FB927-E4F7-428F-ADEF-C1759813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98D502-A0A0-42A1-8D6A-4BADEEF0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E4B0E9-4548-466E-A9F2-643B3E2D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7468-E119-470F-9D5A-4DE7C119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56D859-2FE8-4E02-B896-6341D9CC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50939C-8ACC-4390-AF60-1F7FB1E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AF0AC7-1598-4FE3-9589-32ABD5C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73BB46-3109-4D53-9A18-3CA7E19F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0F623B-A74B-41B8-8431-E3B1A36F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6DF2C0-BB1B-4D39-B62E-03C41ACC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9E5F67-0E67-416C-8AE7-F9479A81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8BEA-810A-4508-BD31-1A7BDF17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5D0A-3F88-4866-A28F-586E554C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423-9AA8-4CB6-8CF2-563DEB37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98A19-2644-4581-83D4-C95EF7A1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125F-CF1F-4AF7-8995-E69B02E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32A1-FA8C-4A40-A6AB-B9D9C0E9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8427-F800-42CA-B0BB-567E3E1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9F9E-8DDB-418B-8E3C-8C1A3462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27CE-3080-4F5E-85B1-BDE51E1C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9918-6CF7-4AE4-AA40-700DD462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7982A-168D-4A77-BD94-FDAB55B4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FD03-E65B-4076-AB28-5BE6D005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9537-AFC9-4660-8854-558C0EE3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C05-9EBB-4431-B272-95189A59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6817-CD04-4B19-A526-7076ABB4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56FA-3EA8-481E-A967-D9E6B313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79F7-1E03-43A7-83CD-A67BAC36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C9A7-7A58-4A80-862B-85B67445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D885-4300-4E65-9A25-9FEE19CE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5FA24-967E-4936-AF8F-15CE15F5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5CBF-F9D1-4893-B82F-6AA1C2ED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C8BC0-42EA-43B9-AE7E-A2C8AED4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E23C-6C36-420D-B583-7CC10FD5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1AC1A-4F56-4D3E-9FCA-66049B9B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097-6622-42A0-ADD0-1112ED14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46D8A-7F23-45D1-BE63-462C760A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E3604-6B48-4ED7-93D2-B4CFC266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61816-ED98-428B-A4EB-0F3E8D7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A697-5920-4072-ACA2-218234CA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A2B9-C0FA-4D2A-A4F7-7521CC73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D9452-16CA-421A-9A7D-FD3EEB33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FFC1-5C9E-4D97-A44F-28B7A6A1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7BEE8-58AA-45DA-90B5-29A7F677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131AA-7009-4A2A-AE5E-EDA544EB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AAACF-883C-4002-B8EF-41F3D711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FF6-3626-4D22-87BF-D941943E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C8B73-9C31-496B-951C-0502EF9F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1F2F0-A79C-4D99-8115-77C721B0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A6C2E-0F87-40C8-9476-5E3D062E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369C-A7A8-448F-BB96-9AE3C588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E64C9-2E56-4035-A9DC-0E6436E1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14C4E-5CD9-4FBD-9A2F-52C87465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6E29D-F500-447D-B7C9-2577B9BC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789A1-746A-4DA4-A605-49FBA993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90198-C308-43C7-83C3-61EB2B34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F56BD-2798-456A-918C-6C1D07E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19B-EFFF-48E5-960F-FAB98634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D1F2A-25E7-4D02-9E05-5D0470F7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73B3A-F66A-4E33-8B84-0DDEA1DC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4672-260B-4805-AF49-319A9C8A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6BDF-645F-428A-8A72-7AA7FC17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55E31-6028-43E2-B102-0CB933AF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47C48-C641-449C-AA1B-A8753D68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D208A-2685-4C47-9406-E40B7821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93C33-F9E8-4FB9-9DC3-951558CB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C7258-63D6-420E-89F1-18D2297D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D645B-BFF1-4831-9573-03EE564D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CDE-0950-4899-A1F5-5221ABB2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9928B-6252-4DC4-A214-DE77D69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B846-DC95-4DC0-B714-C0F515B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DD618-D67A-41D5-875A-E00A61B1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1D5F2-6407-491E-9107-8BE71309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C806D-7691-477C-A0C9-7FC5217C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3106A-02E5-4A24-BF83-3F190ECF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E6595-BF2C-45CD-B324-2DDF76D1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E5679-E229-4A26-A5C0-1CE539BA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FBF3D-D5F3-4730-8365-DD582599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FA01-B728-49F8-8B1A-594C4609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E4C-B6BD-4FFD-9566-3649E6A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8941-DD57-4009-8F2A-6203B582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82EDF-03D7-42A6-A456-0197B90B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495BF-984C-4A2E-A5F2-60B2814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D518C-79DF-4534-8B28-D98D5C15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67062-5B79-40FD-B909-F04C681A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4C07F-732D-4308-8980-507BE2A6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0EF6E-E927-4C7F-A1D7-59BD0164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9D96C-03B6-4B11-BBD9-358006DE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38F3F-D820-4E92-9FE4-3BA2EA27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75ABF-C7CD-4B66-8A9F-8E970CA0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566B-0245-413C-B846-C73F935D56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803C-0D32-4282-A9C7-A95045AF1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1047-3158-464C-8053-0F586F0743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54FA-B3E1-4A39-A03D-1655970C2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722-892B-4AA3-910A-483806B443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00CA-4D27-4329-BEE6-2F06FABC0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1C28-6BBB-4B3F-88AD-B0776291A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8747-0F74-4962-9A6A-1D521F00D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FF50-5B47-47BD-AE55-7CD7057D4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87C7-3EBA-4675-B91D-06DAC0A9D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C9FA-F55F-4EE9-BE24-828B5DF6B9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BD05-5CBB-4AD3-8C21-953C53E7A1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76DA-ECA4-4BA2-902F-1D191122C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C84C-2D1E-4D0B-B50C-D624C50A9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735B-8D3C-4C70-B021-5742DD5018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1059-7B39-4EF6-B428-61EC4CC14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FA87-D107-4E92-A6F8-0C8CCB070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0240-17D8-4A2C-90E0-F8ADC1C38C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4139-5789-4094-8817-78E60B6028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422E-2A4F-4702-8FB7-7BE987970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78BC-C937-48AE-9692-EAC1BDE57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BA48-D832-4AB8-B114-3F4F8B3C60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063D-E9D9-4C2C-898D-A6806B8B38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9899-F180-4CBA-8E0C-B7BA88BA69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C00E-536B-408C-B817-E1F42A0C73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AA5F-D8F8-4F2F-9B1F-069CC82C7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0385-C6BD-46A7-8793-216E858C0A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2B11-E3A9-4A2E-93DF-6B85E40DD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DB06-8DCD-4DF6-8B3D-F3FB428FE1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D474-D89C-44CD-A936-6AE28B31B5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10A9-95C6-4CE1-AE9E-353EE72920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3001-5D82-421A-84A6-1463E101AF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B063-8F66-40C6-B838-4D6855503F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8550-F231-4BDE-ABD2-F308E6AAB7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BAF1-70D0-4795-8552-BA3E76A9FA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BDF5-73D5-487C-BDAF-DEC263008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4905-3595-470E-82D9-121A2D9348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15E6-8B24-4896-ADF5-E6AB330EB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4AED-6612-424D-A8C8-F8AF1B71D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8E33-1B67-4903-9CF9-7C48D1D736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F2C9-EB5D-4CDD-BEF1-BB4A5CDCA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247C-57CA-48B0-9B8E-0E33222088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314360" y="3019320"/>
            <a:ext cx="65152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图片 1" descr=""/>
          <p:cNvPicPr/>
          <p:nvPr/>
        </p:nvPicPr>
        <p:blipFill>
          <a:blip r:embed="rId1"/>
          <a:stretch/>
        </p:blipFill>
        <p:spPr>
          <a:xfrm>
            <a:off x="166680" y="2133720"/>
            <a:ext cx="8809200" cy="25905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2"/>
          <a:stretch/>
        </p:blipFill>
        <p:spPr>
          <a:xfrm>
            <a:off x="755640" y="3170160"/>
            <a:ext cx="7416720" cy="4096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7416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185760" y="866880"/>
            <a:ext cx="8771040" cy="56862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3348000" y="24066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6227640" y="3471840"/>
            <a:ext cx="2521080" cy="4096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3851280" y="4005360"/>
            <a:ext cx="2521080" cy="4093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1655640" cy="40932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6"/>
          <a:stretch/>
        </p:blipFill>
        <p:spPr>
          <a:xfrm>
            <a:off x="6804000" y="4508640"/>
            <a:ext cx="1655640" cy="4093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7"/>
          <a:stretch/>
        </p:blipFill>
        <p:spPr>
          <a:xfrm>
            <a:off x="6156360" y="5041800"/>
            <a:ext cx="2663640" cy="4096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8"/>
          <a:stretch/>
        </p:blipFill>
        <p:spPr>
          <a:xfrm>
            <a:off x="179280" y="5573880"/>
            <a:ext cx="1224000" cy="40932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9"/>
          <a:stretch/>
        </p:blipFill>
        <p:spPr>
          <a:xfrm>
            <a:off x="4211640" y="5559480"/>
            <a:ext cx="2160720" cy="4096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10"/>
          <a:stretch/>
        </p:blipFill>
        <p:spPr>
          <a:xfrm>
            <a:off x="826920" y="6078600"/>
            <a:ext cx="2160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图片 1" descr=""/>
          <p:cNvPicPr/>
          <p:nvPr/>
        </p:nvPicPr>
        <p:blipFill>
          <a:blip r:embed="rId1"/>
          <a:stretch/>
        </p:blipFill>
        <p:spPr>
          <a:xfrm>
            <a:off x="204840" y="1809720"/>
            <a:ext cx="8732880" cy="32385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672000" cy="40968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3"/>
          <a:stretch/>
        </p:blipFill>
        <p:spPr>
          <a:xfrm>
            <a:off x="2124000" y="2895480"/>
            <a:ext cx="22320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433440" y="1109520"/>
            <a:ext cx="8275680" cy="46389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505080" cy="4096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5050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85760" y="835200"/>
            <a:ext cx="8771040" cy="5627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505080" cy="4096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611280" y="2895480"/>
            <a:ext cx="504720" cy="4096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611280" y="5013360"/>
            <a:ext cx="504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57040" y="1100160"/>
            <a:ext cx="8629920" cy="4657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7740720" y="1657440"/>
            <a:ext cx="1079280" cy="409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1079640" cy="4096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1258920" y="3745080"/>
            <a:ext cx="2089080" cy="4093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5724360" y="4264200"/>
            <a:ext cx="1079640" cy="4093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5724360" y="4782960"/>
            <a:ext cx="1800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338040" y="828720"/>
            <a:ext cx="8466120" cy="52005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3924360" y="2392200"/>
            <a:ext cx="934920" cy="4096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6156360" y="2406600"/>
            <a:ext cx="934920" cy="4096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5148360" y="397656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2987640" y="4479840"/>
            <a:ext cx="1728720" cy="4096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2484360" y="5516640"/>
            <a:ext cx="17287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47680" y="2405160"/>
            <a:ext cx="8648640" cy="20476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5076720" y="2909880"/>
            <a:ext cx="3311640" cy="4096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28800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108000" y="988920"/>
            <a:ext cx="8713800" cy="151452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2" descr=""/>
          <p:cNvPicPr/>
          <p:nvPr/>
        </p:nvPicPr>
        <p:blipFill>
          <a:blip r:embed="rId2"/>
          <a:stretch/>
        </p:blipFill>
        <p:spPr>
          <a:xfrm>
            <a:off x="79200" y="2503440"/>
            <a:ext cx="87710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33200" y="1347840"/>
            <a:ext cx="88776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195120" y="1362240"/>
            <a:ext cx="8751960" cy="4133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7416720" cy="4096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684360" y="3443400"/>
            <a:ext cx="7416720" cy="4093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684360" y="5013360"/>
            <a:ext cx="1655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6:5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